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B3AA-FF36-413D-B694-29F4E4826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1813-4179-4C84-B057-7A0E2F09B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9424-E5DE-4471-9AC1-29AB2BE6E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46D3-C567-4FF8-A04D-7A193F571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1BE3-9B7E-4973-9DCC-B0CA62EFE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D13B-DA30-4CFE-894C-235760696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620D-0794-4AD3-8CE9-5BEE0557E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FD3C-1A6B-4973-B0FB-5FF08ABC0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297A-EB7C-4A50-9346-D319035FB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E868-836D-4A52-B27E-042A2A4C6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1A4B-CA6C-4B91-9BF6-80F07EF8B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58A4-C797-4A66-8EEF-56802E276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D32F-6EBC-4397-988D-D68397298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8E70-8633-4E86-B250-1A5FDFC97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A825-133A-4404-83A2-C885F68EB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364C-5600-4508-A26A-8442F7779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5C25-90C1-4F02-8C73-0383CBE5D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0AB8-931B-4BA6-8A28-0AF6F9BBA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196A-8422-4E8F-86FD-EBF14C18B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80CD-9C26-4D5C-8449-F76DAB651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4E7B-4763-4845-B2E7-9B24B11D6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6BFC-1CCE-4DCA-AE06-8268A1A5E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2296-5A7D-4214-AD65-9E6B53CBC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3FC3-9312-43B7-9AC5-9B357FD06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4DB9-2888-4FD5-B707-2CAD99B0D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A467-5316-4926-AFA2-6D32BDC8A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02E2-1921-4BD2-A82D-D5D295802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B7D0-0C34-4383-8DD1-9D95F0528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3FB5-A4DE-4849-AFFB-5FA2AAE1D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28B1-60CA-4505-A6C5-FCA43EA26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53BB-2FFA-4A22-AAFF-2C375432D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A9E6-3550-4FF2-B04E-6A02DC938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6B27-D7CB-4ECB-AC80-FEEFE0086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6D4-2F76-45D1-8F95-0C5F0AE7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CF0-BFAD-4C87-AEC8-B9EA1B78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4F2-5705-4F86-BE48-DA9CFFB6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3C9-DE05-4D62-AA91-DA92A084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820B-80E6-4F19-8799-C7752DCE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AFD0-FA67-4F4A-A1BF-F046FA2B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2A56-B733-47C7-9628-6AC9D96F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2805-4527-44A2-A7FC-5BB49A60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E465-F662-40FD-A363-E952D4CD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5EE7-FD23-47B0-97BF-37885220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09F8-69F7-4581-B891-B6162AD5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304-D0EE-48DE-A7C0-CEA8BDB4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9EEA-4079-46BE-B00F-D0B55252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9E14-68A8-4A6F-A201-6E00DDB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A738-A8AF-42EB-ACE1-010EE1A0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430F-655D-47BE-809E-D6023DE5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DCE3-49D3-439A-9C81-7D3696DF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B22-8224-4F0C-A934-C4E4B3AE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606-909C-46F0-BB24-67DB6A07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862-FF02-4947-8449-2FA3B4D9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162-C883-4C7E-981D-E7BEE162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399-A316-4D13-9175-AB115BF4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66E-360B-433F-B95E-67F0A11B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336-6D41-451F-9A22-A9DA548D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6660-7700-497A-9167-E0DCE5BC22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7F5A-7FCE-44CA-AFF7-69EA04872B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arly Atomic Theoris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33520" y="33526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critus (460-370 B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Democritus"/>
          <p:cNvPicPr/>
          <p:nvPr/>
        </p:nvPicPr>
        <p:blipFill>
          <a:blip r:embed="rId1"/>
          <a:stretch/>
        </p:blipFill>
        <p:spPr>
          <a:xfrm>
            <a:off x="990720" y="1371600"/>
            <a:ext cx="173340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430px-John_Dalton"/>
          <p:cNvPicPr/>
          <p:nvPr/>
        </p:nvPicPr>
        <p:blipFill>
          <a:blip r:embed="rId2"/>
          <a:stretch/>
        </p:blipFill>
        <p:spPr>
          <a:xfrm>
            <a:off x="6019920" y="1371600"/>
            <a:ext cx="120168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5105520" y="32767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Dalton (1766-184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2057400" y="3733920"/>
            <a:ext cx="3200400" cy="312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3352680" y="3733920"/>
            <a:ext cx="3276720" cy="312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6"/>
          <p:cNvSpPr/>
          <p:nvPr/>
        </p:nvSpPr>
        <p:spPr>
          <a:xfrm>
            <a:off x="4343400" y="3886200"/>
            <a:ext cx="800280" cy="2819520"/>
          </a:xfrm>
          <a:custGeom>
            <a:avLst/>
            <a:gdLst>
              <a:gd name="textAreaLeft" fmla="*/ 0 w 800280"/>
              <a:gd name="textAreaRight" fmla="*/ 800640 w 8002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504" h="1776">
                <a:moveTo>
                  <a:pt x="0" y="0"/>
                </a:moveTo>
                <a:cubicBezTo>
                  <a:pt x="68" y="44"/>
                  <a:pt x="136" y="88"/>
                  <a:pt x="192" y="144"/>
                </a:cubicBezTo>
                <a:cubicBezTo>
                  <a:pt x="248" y="200"/>
                  <a:pt x="296" y="272"/>
                  <a:pt x="336" y="336"/>
                </a:cubicBezTo>
                <a:cubicBezTo>
                  <a:pt x="376" y="400"/>
                  <a:pt x="408" y="456"/>
                  <a:pt x="432" y="528"/>
                </a:cubicBezTo>
                <a:cubicBezTo>
                  <a:pt x="456" y="600"/>
                  <a:pt x="472" y="688"/>
                  <a:pt x="480" y="768"/>
                </a:cubicBezTo>
                <a:cubicBezTo>
                  <a:pt x="488" y="848"/>
                  <a:pt x="480" y="936"/>
                  <a:pt x="480" y="1008"/>
                </a:cubicBezTo>
                <a:cubicBezTo>
                  <a:pt x="480" y="1080"/>
                  <a:pt x="504" y="1120"/>
                  <a:pt x="480" y="1200"/>
                </a:cubicBezTo>
                <a:cubicBezTo>
                  <a:pt x="456" y="1280"/>
                  <a:pt x="392" y="1408"/>
                  <a:pt x="336" y="1488"/>
                </a:cubicBezTo>
                <a:cubicBezTo>
                  <a:pt x="280" y="1568"/>
                  <a:pt x="200" y="1632"/>
                  <a:pt x="144" y="1680"/>
                </a:cubicBezTo>
                <a:cubicBezTo>
                  <a:pt x="88" y="1728"/>
                  <a:pt x="44" y="1752"/>
                  <a:pt x="0" y="17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3505320" y="4495680"/>
            <a:ext cx="19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atter is composed of atoms that are indestructible and indivi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52578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2133720" y="4800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8"/>
          <p:cNvSpPr/>
          <p:nvPr/>
        </p:nvSpPr>
        <p:spPr>
          <a:xfrm>
            <a:off x="838080" y="2057400"/>
            <a:ext cx="12956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4"/>
          <p:cNvGrpSpPr/>
          <p:nvPr/>
        </p:nvGrpSpPr>
        <p:grpSpPr>
          <a:xfrm>
            <a:off x="1676520" y="1523880"/>
            <a:ext cx="2209680" cy="685800"/>
            <a:chOff x="1676520" y="1523880"/>
            <a:chExt cx="2209680" cy="685800"/>
          </a:xfrm>
        </p:grpSpPr>
        <p:sp>
          <p:nvSpPr>
            <p:cNvPr id="164" name="Line 50"/>
            <p:cNvSpPr/>
            <p:nvPr/>
          </p:nvSpPr>
          <p:spPr>
            <a:xfrm flipH="1">
              <a:off x="1676520" y="182880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1"/>
            <p:cNvSpPr/>
            <p:nvPr/>
          </p:nvSpPr>
          <p:spPr>
            <a:xfrm>
              <a:off x="251460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omic Numbe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55"/>
          <p:cNvGrpSpPr/>
          <p:nvPr/>
        </p:nvGrpSpPr>
        <p:grpSpPr>
          <a:xfrm>
            <a:off x="1904760" y="3429000"/>
            <a:ext cx="2057760" cy="794880"/>
            <a:chOff x="1904760" y="3429000"/>
            <a:chExt cx="2057760" cy="794880"/>
          </a:xfrm>
        </p:grpSpPr>
        <p:sp>
          <p:nvSpPr>
            <p:cNvPr id="167" name="Line 52"/>
            <p:cNvSpPr/>
            <p:nvPr/>
          </p:nvSpPr>
          <p:spPr>
            <a:xfrm flipH="1" flipV="1">
              <a:off x="1904760" y="34290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3"/>
            <p:cNvSpPr/>
            <p:nvPr/>
          </p:nvSpPr>
          <p:spPr>
            <a:xfrm>
              <a:off x="2590920" y="3581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omic Mas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65"/>
          <p:cNvGrpSpPr/>
          <p:nvPr/>
        </p:nvGrpSpPr>
        <p:grpSpPr>
          <a:xfrm>
            <a:off x="3505320" y="3581280"/>
            <a:ext cx="1981080" cy="581400"/>
            <a:chOff x="3505320" y="3581280"/>
            <a:chExt cx="1981080" cy="581400"/>
          </a:xfrm>
        </p:grpSpPr>
        <p:sp>
          <p:nvSpPr>
            <p:cNvPr id="170" name="Text Box 56"/>
            <p:cNvSpPr/>
            <p:nvPr/>
          </p:nvSpPr>
          <p:spPr>
            <a:xfrm>
              <a:off x="3505320" y="35812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Mass Numbe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7"/>
            <p:cNvSpPr/>
            <p:nvPr/>
          </p:nvSpPr>
          <p:spPr>
            <a:xfrm flipH="1">
              <a:off x="3657600" y="3733920"/>
              <a:ext cx="763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59"/>
          <p:cNvSpPr/>
          <p:nvPr/>
        </p:nvSpPr>
        <p:spPr>
          <a:xfrm>
            <a:off x="5486400" y="37339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410080" y="3733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otons + neutr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64"/>
          <p:cNvGrpSpPr/>
          <p:nvPr/>
        </p:nvGrpSpPr>
        <p:grpSpPr>
          <a:xfrm>
            <a:off x="2819520" y="4191120"/>
            <a:ext cx="4724280" cy="947160"/>
            <a:chOff x="2819520" y="4191120"/>
            <a:chExt cx="4724280" cy="947160"/>
          </a:xfrm>
        </p:grpSpPr>
        <p:sp>
          <p:nvSpPr>
            <p:cNvPr id="175" name="Line 61"/>
            <p:cNvSpPr/>
            <p:nvPr/>
          </p:nvSpPr>
          <p:spPr>
            <a:xfrm>
              <a:off x="2819520" y="4191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62"/>
            <p:cNvSpPr/>
            <p:nvPr/>
          </p:nvSpPr>
          <p:spPr>
            <a:xfrm>
              <a:off x="2819520" y="4724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3"/>
            <p:cNvSpPr/>
            <p:nvPr/>
          </p:nvSpPr>
          <p:spPr>
            <a:xfrm>
              <a:off x="3429000" y="4495680"/>
              <a:ext cx="411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2560" indent="-525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weighted average mass of all the isotopes of an elemen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66"/>
          <p:cNvSpPr/>
          <p:nvPr/>
        </p:nvSpPr>
        <p:spPr>
          <a:xfrm>
            <a:off x="3505320" y="1447920"/>
            <a:ext cx="2590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# prot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# electr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7"/>
          <p:cNvSpPr/>
          <p:nvPr/>
        </p:nvSpPr>
        <p:spPr>
          <a:xfrm>
            <a:off x="990720" y="5562720"/>
            <a:ext cx="7391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the number of protons results in a new at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the number of electrons results in an ion (+ or – char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the number of neutrons results in an isoto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2819520" y="4495680"/>
                <a:ext cx="9968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Text Box 4"/>
          <p:cNvSpPr/>
          <p:nvPr/>
        </p:nvSpPr>
        <p:spPr>
          <a:xfrm>
            <a:off x="533520" y="2971800"/>
            <a:ext cx="46479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or Nuclide 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d in nuclear equ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715000" y="3733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-1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5"/>
          <p:cNvGrpSpPr/>
          <p:nvPr/>
        </p:nvGrpSpPr>
        <p:grpSpPr>
          <a:xfrm>
            <a:off x="762120" y="4267080"/>
            <a:ext cx="1904760" cy="642600"/>
            <a:chOff x="762120" y="4267080"/>
            <a:chExt cx="1904760" cy="642600"/>
          </a:xfrm>
        </p:grpSpPr>
        <p:sp>
          <p:nvSpPr>
            <p:cNvPr id="185" name="Line 11"/>
            <p:cNvSpPr/>
            <p:nvPr/>
          </p:nvSpPr>
          <p:spPr>
            <a:xfrm>
              <a:off x="1752480" y="4724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762120" y="42670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ss Numbe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6"/>
          <p:cNvGrpSpPr/>
          <p:nvPr/>
        </p:nvGrpSpPr>
        <p:grpSpPr>
          <a:xfrm>
            <a:off x="838080" y="5105520"/>
            <a:ext cx="1828800" cy="642600"/>
            <a:chOff x="838080" y="5105520"/>
            <a:chExt cx="1828800" cy="642600"/>
          </a:xfrm>
        </p:grpSpPr>
        <p:sp>
          <p:nvSpPr>
            <p:cNvPr id="188" name="Line 13"/>
            <p:cNvSpPr/>
            <p:nvPr/>
          </p:nvSpPr>
          <p:spPr>
            <a:xfrm>
              <a:off x="1752480" y="5257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838080" y="51055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omic Numbe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17"/>
          <p:cNvSpPr/>
          <p:nvPr/>
        </p:nvSpPr>
        <p:spPr>
          <a:xfrm>
            <a:off x="533520" y="1828800"/>
            <a:ext cx="571500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s of the same element that contain the sam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rotons and different numbers of neutr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5486400" y="2971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 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6857640" y="3733920"/>
            <a:ext cx="1829160" cy="642600"/>
            <a:chOff x="6857640" y="3733920"/>
            <a:chExt cx="1829160" cy="642600"/>
          </a:xfrm>
        </p:grpSpPr>
        <p:sp>
          <p:nvSpPr>
            <p:cNvPr id="193" name="Text Box 25"/>
            <p:cNvSpPr/>
            <p:nvPr/>
          </p:nvSpPr>
          <p:spPr>
            <a:xfrm>
              <a:off x="7620120" y="37339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ss Numbe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6"/>
            <p:cNvSpPr/>
            <p:nvPr/>
          </p:nvSpPr>
          <p:spPr>
            <a:xfrm flipH="1">
              <a:off x="6857640" y="4038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tomic Mass Probl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555480" y="1744560"/>
            <a:ext cx="8131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on has two naturally occurring isotopes: boron-10 (19.8%, 10.013 amu) and boron 11 (80.2%, 11.009 amu).  What is the atomic mass of bor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Abundance x Mass for each isotope and then add products toge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98 x 10.013 = 1.9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.802 x 11.009 = 8.8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00                 10.81 am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stable Nuclei and Radioactive Dec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Reactions involve a change in the nucleus of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ubstances spontaneously emit radiation in a process called radioactivity due to nuclear instability (stability is determined by neutron to proton rat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ys and particles emitted by radioactive materials are called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 nuclei decay until they form stable non-radioactive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6"/>
              <p:cNvSpPr txBox="1"/>
              <p:nvPr/>
            </p:nvSpPr>
            <p:spPr>
              <a:xfrm>
                <a:off x="3581280" y="2362320"/>
                <a:ext cx="25146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β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3"/>
          <p:cNvSpPr/>
          <p:nvPr/>
        </p:nvSpPr>
        <p:spPr>
          <a:xfrm>
            <a:off x="2209680" y="3733920"/>
            <a:ext cx="4800600" cy="289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8686800" y="2743200"/>
            <a:ext cx="4572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7"/>
          <p:cNvSpPr/>
          <p:nvPr/>
        </p:nvSpPr>
        <p:spPr>
          <a:xfrm>
            <a:off x="4191120" y="2666880"/>
            <a:ext cx="53316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1371600" y="2743200"/>
            <a:ext cx="6094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Radi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0"/>
              <p:cNvSpPr txBox="1"/>
              <p:nvPr/>
            </p:nvSpPr>
            <p:spPr>
              <a:xfrm>
                <a:off x="3352680" y="2743200"/>
                <a:ext cx="21337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β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3"/>
              <p:cNvSpPr txBox="1"/>
              <p:nvPr/>
            </p:nvSpPr>
            <p:spPr>
              <a:xfrm>
                <a:off x="228600" y="2743200"/>
                <a:ext cx="2743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5"/>
          <p:cNvSpPr/>
          <p:nvPr/>
        </p:nvSpPr>
        <p:spPr>
          <a:xfrm>
            <a:off x="228600" y="1752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505320" y="1752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781680" y="1752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m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743200" y="18288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5943600" y="18288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4"/>
              <p:cNvSpPr txBox="1"/>
              <p:nvPr/>
            </p:nvSpPr>
            <p:spPr>
              <a:xfrm>
                <a:off x="5791320" y="2703600"/>
                <a:ext cx="33526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Th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Picture 32" descr="rayselectric"/>
          <p:cNvPicPr/>
          <p:nvPr/>
        </p:nvPicPr>
        <p:blipFill>
          <a:blip r:embed="rId1"/>
          <a:stretch/>
        </p:blipFill>
        <p:spPr>
          <a:xfrm>
            <a:off x="2438280" y="3962520"/>
            <a:ext cx="43624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Activity 11/11/0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nuclear decay has neptunium-237 undergone in the following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2971800" y="2819520"/>
                <a:ext cx="30862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7" name="Group 12"/>
          <p:cNvGrpSpPr/>
          <p:nvPr/>
        </p:nvGrpSpPr>
        <p:grpSpPr>
          <a:xfrm>
            <a:off x="2971800" y="3886200"/>
            <a:ext cx="2819520" cy="685800"/>
            <a:chOff x="2971800" y="3886200"/>
            <a:chExt cx="2819520" cy="685800"/>
          </a:xfrm>
        </p:grpSpPr>
        <p:sp>
          <p:nvSpPr>
            <p:cNvPr id="218" name="Text Box 6"/>
            <p:cNvSpPr/>
            <p:nvPr/>
          </p:nvSpPr>
          <p:spPr>
            <a:xfrm>
              <a:off x="2971800" y="39625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pha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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Object 9"/>
                <p:cNvSpPr txBox="1"/>
                <p:nvPr/>
              </p:nvSpPr>
              <p:spPr>
                <a:xfrm>
                  <a:off x="4724280" y="3886200"/>
                  <a:ext cx="8002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He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Activity 11/12/0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ubatomic particles are involved in chemical re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ubatomic particles are involved in nuclear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429000" y="2971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lectr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828800" y="5181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tons, Neutrons and Electr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racteristics of Chemical and Nuclear Re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600200"/>
          <a:ext cx="8229600" cy="4559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Reac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ar Reac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 when bonds are broken and form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 when nuclei emit particles and/or ray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s remain unchanged, although they may be rearrang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s are converted into atoms of another el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Valence (outermost) electrons are involv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involve protons, neutrons, and electron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iated with small energy chang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iated with large energy chang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rates are influenced by temperature, pressure, concentration, and catalyst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rates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re no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fluenced by temperature, pressure, concentration, and catalyst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ve Strength and Mass of Radioactive Partic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2057400" y="441972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 flipH="1">
            <a:off x="2057040" y="335268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35053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M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3276720" y="4648320"/>
            <a:ext cx="32004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Str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locked B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1295280" y="3657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3886200" y="3657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617220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2"/>
          <p:cNvGrpSpPr/>
          <p:nvPr/>
        </p:nvGrpSpPr>
        <p:grpSpPr>
          <a:xfrm>
            <a:off x="4114800" y="5715000"/>
            <a:ext cx="1600200" cy="593280"/>
            <a:chOff x="4114800" y="5715000"/>
            <a:chExt cx="1600200" cy="593280"/>
          </a:xfrm>
        </p:grpSpPr>
        <p:sp>
          <p:nvSpPr>
            <p:cNvPr id="235" name="Rectangle 26"/>
            <p:cNvSpPr/>
            <p:nvPr/>
          </p:nvSpPr>
          <p:spPr>
            <a:xfrm>
              <a:off x="4114800" y="5715000"/>
              <a:ext cx="1523880" cy="53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4114800" y="58485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tal Foil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3"/>
          <p:cNvGrpSpPr/>
          <p:nvPr/>
        </p:nvGrpSpPr>
        <p:grpSpPr>
          <a:xfrm>
            <a:off x="6248520" y="5334120"/>
            <a:ext cx="2666880" cy="1295280"/>
            <a:chOff x="6248520" y="5334120"/>
            <a:chExt cx="2666880" cy="1295280"/>
          </a:xfrm>
        </p:grpSpPr>
        <p:sp>
          <p:nvSpPr>
            <p:cNvPr id="238" name="Rectangle 27"/>
            <p:cNvSpPr/>
            <p:nvPr/>
          </p:nvSpPr>
          <p:spPr>
            <a:xfrm>
              <a:off x="6248520" y="5334120"/>
              <a:ext cx="2666880" cy="1295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4"/>
            <p:cNvSpPr/>
            <p:nvPr/>
          </p:nvSpPr>
          <p:spPr>
            <a:xfrm>
              <a:off x="6400800" y="533412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 completely blocked by lead or cemen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2"/>
          <p:cNvGrpSpPr/>
          <p:nvPr/>
        </p:nvGrpSpPr>
        <p:grpSpPr>
          <a:xfrm>
            <a:off x="1981080" y="1905120"/>
            <a:ext cx="1676520" cy="609480"/>
            <a:chOff x="1981080" y="1905120"/>
            <a:chExt cx="1676520" cy="609480"/>
          </a:xfrm>
        </p:grpSpPr>
        <p:sp>
          <p:nvSpPr>
            <p:cNvPr id="241" name="Rectangle 18"/>
            <p:cNvSpPr/>
            <p:nvPr/>
          </p:nvSpPr>
          <p:spPr>
            <a:xfrm>
              <a:off x="1981080" y="1905120"/>
              <a:ext cx="144792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981080" y="19810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64 x 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-2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3"/>
          <p:cNvGrpSpPr/>
          <p:nvPr/>
        </p:nvGrpSpPr>
        <p:grpSpPr>
          <a:xfrm>
            <a:off x="4038480" y="1905120"/>
            <a:ext cx="1752840" cy="609480"/>
            <a:chOff x="4038480" y="1905120"/>
            <a:chExt cx="1752840" cy="609480"/>
          </a:xfrm>
        </p:grpSpPr>
        <p:sp>
          <p:nvSpPr>
            <p:cNvPr id="244" name="Rectangle 19"/>
            <p:cNvSpPr/>
            <p:nvPr/>
          </p:nvSpPr>
          <p:spPr>
            <a:xfrm>
              <a:off x="4038480" y="1905120"/>
              <a:ext cx="144792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6"/>
            <p:cNvSpPr/>
            <p:nvPr/>
          </p:nvSpPr>
          <p:spPr>
            <a:xfrm>
              <a:off x="4114800" y="19810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.11 x 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-28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4"/>
          <p:cNvGrpSpPr/>
          <p:nvPr/>
        </p:nvGrpSpPr>
        <p:grpSpPr>
          <a:xfrm>
            <a:off x="6400800" y="1905120"/>
            <a:ext cx="1676520" cy="609480"/>
            <a:chOff x="6400800" y="1905120"/>
            <a:chExt cx="1676520" cy="609480"/>
          </a:xfrm>
        </p:grpSpPr>
        <p:sp>
          <p:nvSpPr>
            <p:cNvPr id="247" name="Rectangle 21"/>
            <p:cNvSpPr/>
            <p:nvPr/>
          </p:nvSpPr>
          <p:spPr>
            <a:xfrm>
              <a:off x="6400800" y="1905120"/>
              <a:ext cx="144792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7"/>
            <p:cNvSpPr/>
            <p:nvPr/>
          </p:nvSpPr>
          <p:spPr>
            <a:xfrm>
              <a:off x="6400800" y="19810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35"/>
          <p:cNvGrpSpPr/>
          <p:nvPr/>
        </p:nvGrpSpPr>
        <p:grpSpPr>
          <a:xfrm>
            <a:off x="1447920" y="5638680"/>
            <a:ext cx="1295280" cy="609840"/>
            <a:chOff x="1447920" y="5638680"/>
            <a:chExt cx="1295280" cy="609840"/>
          </a:xfrm>
        </p:grpSpPr>
        <p:sp>
          <p:nvSpPr>
            <p:cNvPr id="250" name="Rectangle 25"/>
            <p:cNvSpPr/>
            <p:nvPr/>
          </p:nvSpPr>
          <p:spPr>
            <a:xfrm>
              <a:off x="1447920" y="5638680"/>
              <a:ext cx="990360" cy="609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4"/>
            <p:cNvSpPr/>
            <p:nvPr/>
          </p:nvSpPr>
          <p:spPr>
            <a:xfrm>
              <a:off x="1447920" y="5715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p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uclear Stability</a:t>
            </a:r>
            <a:br>
              <a:rPr sz="3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lectrostatic Force vs. Nuclear Fo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static force arises from the interaction between two protons (repulsive for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force arises between protons and neutrons due to their close proximity to one an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9"/>
          <p:cNvGrpSpPr/>
          <p:nvPr/>
        </p:nvGrpSpPr>
        <p:grpSpPr>
          <a:xfrm>
            <a:off x="3886200" y="2971800"/>
            <a:ext cx="1143000" cy="990360"/>
            <a:chOff x="3886200" y="2971800"/>
            <a:chExt cx="1143000" cy="990360"/>
          </a:xfrm>
        </p:grpSpPr>
        <p:sp>
          <p:nvSpPr>
            <p:cNvPr id="256" name="Oval 18"/>
            <p:cNvSpPr/>
            <p:nvPr/>
          </p:nvSpPr>
          <p:spPr>
            <a:xfrm>
              <a:off x="4038480" y="304776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2"/>
            <p:cNvSpPr/>
            <p:nvPr/>
          </p:nvSpPr>
          <p:spPr>
            <a:xfrm>
              <a:off x="4495680" y="350496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4"/>
            <p:cNvSpPr/>
            <p:nvPr/>
          </p:nvSpPr>
          <p:spPr>
            <a:xfrm>
              <a:off x="4343400" y="3657600"/>
              <a:ext cx="304920" cy="304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4724280" y="3276360"/>
              <a:ext cx="30492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4114800" y="358128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3"/>
            <p:cNvSpPr/>
            <p:nvPr/>
          </p:nvSpPr>
          <p:spPr>
            <a:xfrm>
              <a:off x="4572000" y="304776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5"/>
            <p:cNvSpPr/>
            <p:nvPr/>
          </p:nvSpPr>
          <p:spPr>
            <a:xfrm>
              <a:off x="4191120" y="2971800"/>
              <a:ext cx="304560" cy="304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6"/>
            <p:cNvSpPr/>
            <p:nvPr/>
          </p:nvSpPr>
          <p:spPr>
            <a:xfrm>
              <a:off x="3886200" y="3352680"/>
              <a:ext cx="30492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6"/>
            <p:cNvSpPr/>
            <p:nvPr/>
          </p:nvSpPr>
          <p:spPr>
            <a:xfrm>
              <a:off x="4495680" y="327636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7"/>
            <p:cNvSpPr/>
            <p:nvPr/>
          </p:nvSpPr>
          <p:spPr>
            <a:xfrm>
              <a:off x="4038480" y="327636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8"/>
            <p:cNvSpPr/>
            <p:nvPr/>
          </p:nvSpPr>
          <p:spPr>
            <a:xfrm>
              <a:off x="4267080" y="350496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4267080" y="3276360"/>
              <a:ext cx="30492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alton’s Atomic Theo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2" marL="108576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 elements are composed of tiny indivisible particles called ato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Atoms of the same element are identical.  Atoms of any one element are different from those of any other ele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Atoms cannot be created, divided into smaller particles or destroy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oms of different elements can physically mix together or can chemically combine with one another in simple whole-number ratios to form compound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emical reactions occur when atoms are separated, joined, or rearranged.  Atoms of one element, however, are never changed into atoms of another element as a result of a chemical reac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80880" y="312408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utron to Proton Ration and the Band of Stabil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5715000" y="35053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4952880" y="2819520"/>
            <a:ext cx="396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atomic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, more and mo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s are needed t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strong nucl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to oppose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electrostati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16"/>
          <p:cNvGrpSpPr/>
          <p:nvPr/>
        </p:nvGrpSpPr>
        <p:grpSpPr>
          <a:xfrm>
            <a:off x="838080" y="1905120"/>
            <a:ext cx="4038840" cy="4647960"/>
            <a:chOff x="838080" y="1905120"/>
            <a:chExt cx="4038840" cy="4647960"/>
          </a:xfrm>
        </p:grpSpPr>
        <p:grpSp>
          <p:nvGrpSpPr>
            <p:cNvPr id="272" name="Group 14"/>
            <p:cNvGrpSpPr/>
            <p:nvPr/>
          </p:nvGrpSpPr>
          <p:grpSpPr>
            <a:xfrm>
              <a:off x="838080" y="1905120"/>
              <a:ext cx="4038840" cy="4647960"/>
              <a:chOff x="838080" y="1905120"/>
              <a:chExt cx="4038840" cy="4647960"/>
            </a:xfrm>
          </p:grpSpPr>
          <p:pic>
            <p:nvPicPr>
              <p:cNvPr id="273" name="Picture 5" descr="5cb2c6e6-0c3d-4a4a-919a-30f7c103c41d"/>
              <p:cNvPicPr/>
              <p:nvPr/>
            </p:nvPicPr>
            <p:blipFill>
              <a:blip r:embed="rId1"/>
              <a:stretch/>
            </p:blipFill>
            <p:spPr>
              <a:xfrm>
                <a:off x="838080" y="2362320"/>
                <a:ext cx="3903840" cy="419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Rectangle 7"/>
              <p:cNvSpPr/>
              <p:nvPr/>
            </p:nvSpPr>
            <p:spPr>
              <a:xfrm>
                <a:off x="3886200" y="335268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"/>
              <p:cNvSpPr/>
              <p:nvPr/>
            </p:nvSpPr>
            <p:spPr>
              <a:xfrm>
                <a:off x="838080" y="2971800"/>
                <a:ext cx="15264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10"/>
              <p:cNvSpPr/>
              <p:nvPr/>
            </p:nvSpPr>
            <p:spPr>
              <a:xfrm>
                <a:off x="4114800" y="259092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: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1"/>
              <p:cNvSpPr/>
              <p:nvPr/>
            </p:nvSpPr>
            <p:spPr>
              <a:xfrm flipV="1">
                <a:off x="1295280" y="2286000"/>
                <a:ext cx="1981440" cy="358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2"/>
              <p:cNvSpPr/>
              <p:nvPr/>
            </p:nvSpPr>
            <p:spPr>
              <a:xfrm>
                <a:off x="2895480" y="190512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.5: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Rectangle 15"/>
            <p:cNvSpPr/>
            <p:nvPr/>
          </p:nvSpPr>
          <p:spPr>
            <a:xfrm>
              <a:off x="3200400" y="6095880"/>
              <a:ext cx="2286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dioactive Decay and St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5cb2c6e6-0c3d-4a4a-919a-30f7c103c41d"/>
          <p:cNvPicPr/>
          <p:nvPr/>
        </p:nvPicPr>
        <p:blipFill>
          <a:blip r:embed="rId1"/>
          <a:stretch/>
        </p:blipFill>
        <p:spPr>
          <a:xfrm>
            <a:off x="838080" y="2362320"/>
            <a:ext cx="3903840" cy="41907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3886200" y="33526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38080" y="2971800"/>
            <a:ext cx="152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4114800" y="2590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9"/>
          <p:cNvSpPr/>
          <p:nvPr/>
        </p:nvSpPr>
        <p:spPr>
          <a:xfrm flipV="1">
            <a:off x="1295280" y="1218960"/>
            <a:ext cx="2667240" cy="464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3809880" y="1600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: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3200400" y="609588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5029200" y="1447920"/>
            <a:ext cx="32544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pha Decay Reduces the number of neutrons and the number of protons in the nucle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pha Decay often occurs in elements with an atomic number of 83 or high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20574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2817720" y="46353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5029200" y="54864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at region of the graph would this type of decay be most effectiv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7010280" y="6172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8"/>
          <p:cNvSpPr/>
          <p:nvPr/>
        </p:nvSpPr>
        <p:spPr>
          <a:xfrm flipV="1">
            <a:off x="3403440" y="121896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9"/>
          <p:cNvSpPr/>
          <p:nvPr/>
        </p:nvSpPr>
        <p:spPr>
          <a:xfrm>
            <a:off x="3462480" y="126684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dioactive Decay and St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57200" y="2518920"/>
            <a:ext cx="4038480" cy="269244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4"/>
          <p:cNvGrpSpPr/>
          <p:nvPr/>
        </p:nvGrpSpPr>
        <p:grpSpPr>
          <a:xfrm>
            <a:off x="914400" y="1676520"/>
            <a:ext cx="4038120" cy="4647960"/>
            <a:chOff x="914400" y="1676520"/>
            <a:chExt cx="4038120" cy="4647960"/>
          </a:xfrm>
        </p:grpSpPr>
        <p:grpSp>
          <p:nvGrpSpPr>
            <p:cNvPr id="298" name="Group 5"/>
            <p:cNvGrpSpPr/>
            <p:nvPr/>
          </p:nvGrpSpPr>
          <p:grpSpPr>
            <a:xfrm>
              <a:off x="914400" y="1676520"/>
              <a:ext cx="4038120" cy="4647960"/>
              <a:chOff x="914400" y="1676520"/>
              <a:chExt cx="4038120" cy="4647960"/>
            </a:xfrm>
          </p:grpSpPr>
          <p:pic>
            <p:nvPicPr>
              <p:cNvPr id="299" name="Picture 6" descr="5cb2c6e6-0c3d-4a4a-919a-30f7c103c41d"/>
              <p:cNvPicPr/>
              <p:nvPr/>
            </p:nvPicPr>
            <p:blipFill>
              <a:blip r:embed="rId2"/>
              <a:stretch/>
            </p:blipFill>
            <p:spPr>
              <a:xfrm>
                <a:off x="914400" y="2133720"/>
                <a:ext cx="3903480" cy="419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Rectangle 7"/>
              <p:cNvSpPr/>
              <p:nvPr/>
            </p:nvSpPr>
            <p:spPr>
              <a:xfrm>
                <a:off x="3962160" y="3124080"/>
                <a:ext cx="91404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8"/>
              <p:cNvSpPr/>
              <p:nvPr/>
            </p:nvSpPr>
            <p:spPr>
              <a:xfrm>
                <a:off x="914400" y="2743200"/>
                <a:ext cx="1522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9"/>
              <p:cNvSpPr/>
              <p:nvPr/>
            </p:nvSpPr>
            <p:spPr>
              <a:xfrm>
                <a:off x="4190760" y="23623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: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10"/>
              <p:cNvSpPr/>
              <p:nvPr/>
            </p:nvSpPr>
            <p:spPr>
              <a:xfrm flipV="1">
                <a:off x="1371240" y="2057400"/>
                <a:ext cx="1981080" cy="358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11"/>
              <p:cNvSpPr/>
              <p:nvPr/>
            </p:nvSpPr>
            <p:spPr>
              <a:xfrm>
                <a:off x="2971440" y="16765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.5: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12"/>
            <p:cNvSpPr/>
            <p:nvPr/>
          </p:nvSpPr>
          <p:spPr>
            <a:xfrm>
              <a:off x="3276360" y="5867280"/>
              <a:ext cx="228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3"/>
          <p:cNvSpPr/>
          <p:nvPr/>
        </p:nvSpPr>
        <p:spPr>
          <a:xfrm>
            <a:off x="5257800" y="190512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Decay occurs in atoms that has too many neutrons relative to its number of prot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6"/>
              <p:cNvSpPr txBox="1"/>
              <p:nvPr/>
            </p:nvSpPr>
            <p:spPr>
              <a:xfrm>
                <a:off x="5334120" y="4343400"/>
                <a:ext cx="2743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p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Text Box 23"/>
          <p:cNvSpPr/>
          <p:nvPr/>
        </p:nvSpPr>
        <p:spPr>
          <a:xfrm>
            <a:off x="205740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4"/>
          <p:cNvSpPr/>
          <p:nvPr/>
        </p:nvSpPr>
        <p:spPr>
          <a:xfrm>
            <a:off x="34290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5"/>
          <p:cNvSpPr/>
          <p:nvPr/>
        </p:nvSpPr>
        <p:spPr>
          <a:xfrm>
            <a:off x="5410080" y="541008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at region of the graph would this type of decay be most effectiv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6"/>
          <p:cNvSpPr/>
          <p:nvPr/>
        </p:nvSpPr>
        <p:spPr>
          <a:xfrm>
            <a:off x="7162920" y="617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dioactive Decay and St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5"/>
          <p:cNvGrpSpPr/>
          <p:nvPr/>
        </p:nvGrpSpPr>
        <p:grpSpPr>
          <a:xfrm>
            <a:off x="914400" y="1676520"/>
            <a:ext cx="4038120" cy="4647960"/>
            <a:chOff x="914400" y="1676520"/>
            <a:chExt cx="4038120" cy="4647960"/>
          </a:xfrm>
        </p:grpSpPr>
        <p:grpSp>
          <p:nvGrpSpPr>
            <p:cNvPr id="314" name="Group 16"/>
            <p:cNvGrpSpPr/>
            <p:nvPr/>
          </p:nvGrpSpPr>
          <p:grpSpPr>
            <a:xfrm>
              <a:off x="914400" y="1676520"/>
              <a:ext cx="4038120" cy="4647960"/>
              <a:chOff x="914400" y="1676520"/>
              <a:chExt cx="4038120" cy="4647960"/>
            </a:xfrm>
          </p:grpSpPr>
          <p:pic>
            <p:nvPicPr>
              <p:cNvPr id="315" name="Picture 17" descr="5cb2c6e6-0c3d-4a4a-919a-30f7c103c41d"/>
              <p:cNvPicPr/>
              <p:nvPr/>
            </p:nvPicPr>
            <p:blipFill>
              <a:blip r:embed="rId1"/>
              <a:stretch/>
            </p:blipFill>
            <p:spPr>
              <a:xfrm>
                <a:off x="914400" y="2133720"/>
                <a:ext cx="3903480" cy="419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Rectangle 18"/>
              <p:cNvSpPr/>
              <p:nvPr/>
            </p:nvSpPr>
            <p:spPr>
              <a:xfrm>
                <a:off x="3962160" y="3124080"/>
                <a:ext cx="91404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9"/>
              <p:cNvSpPr/>
              <p:nvPr/>
            </p:nvSpPr>
            <p:spPr>
              <a:xfrm>
                <a:off x="914400" y="2743200"/>
                <a:ext cx="1522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 Box 20"/>
              <p:cNvSpPr/>
              <p:nvPr/>
            </p:nvSpPr>
            <p:spPr>
              <a:xfrm>
                <a:off x="4190760" y="23623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: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21"/>
              <p:cNvSpPr/>
              <p:nvPr/>
            </p:nvSpPr>
            <p:spPr>
              <a:xfrm flipV="1">
                <a:off x="1371240" y="2057400"/>
                <a:ext cx="1981080" cy="358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22"/>
              <p:cNvSpPr/>
              <p:nvPr/>
            </p:nvSpPr>
            <p:spPr>
              <a:xfrm>
                <a:off x="2971440" y="16765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.5: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Rectangle 23"/>
            <p:cNvSpPr/>
            <p:nvPr/>
          </p:nvSpPr>
          <p:spPr>
            <a:xfrm>
              <a:off x="3276360" y="5867280"/>
              <a:ext cx="228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24"/>
          <p:cNvSpPr/>
          <p:nvPr/>
        </p:nvSpPr>
        <p:spPr>
          <a:xfrm>
            <a:off x="5486400" y="18288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ron emission occurs in atoms where the number of protons is high relative to its number of neutr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28"/>
              <p:cNvSpPr txBox="1"/>
              <p:nvPr/>
            </p:nvSpPr>
            <p:spPr>
              <a:xfrm>
                <a:off x="5791320" y="4506840"/>
                <a:ext cx="2209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p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Text Box 30"/>
          <p:cNvSpPr/>
          <p:nvPr/>
        </p:nvSpPr>
        <p:spPr>
          <a:xfrm>
            <a:off x="213372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35053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2"/>
          <p:cNvSpPr/>
          <p:nvPr/>
        </p:nvSpPr>
        <p:spPr>
          <a:xfrm>
            <a:off x="5638680" y="5410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at region of the graph would this type of decay be most effectiv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3"/>
          <p:cNvSpPr/>
          <p:nvPr/>
        </p:nvSpPr>
        <p:spPr>
          <a:xfrm>
            <a:off x="76960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dioactive Decay and St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5"/>
          <p:cNvGrpSpPr/>
          <p:nvPr/>
        </p:nvGrpSpPr>
        <p:grpSpPr>
          <a:xfrm>
            <a:off x="914400" y="1676520"/>
            <a:ext cx="4038120" cy="4647960"/>
            <a:chOff x="914400" y="1676520"/>
            <a:chExt cx="4038120" cy="4647960"/>
          </a:xfrm>
        </p:grpSpPr>
        <p:grpSp>
          <p:nvGrpSpPr>
            <p:cNvPr id="330" name="Group 6"/>
            <p:cNvGrpSpPr/>
            <p:nvPr/>
          </p:nvGrpSpPr>
          <p:grpSpPr>
            <a:xfrm>
              <a:off x="914400" y="1676520"/>
              <a:ext cx="4038120" cy="4647960"/>
              <a:chOff x="914400" y="1676520"/>
              <a:chExt cx="4038120" cy="4647960"/>
            </a:xfrm>
          </p:grpSpPr>
          <p:pic>
            <p:nvPicPr>
              <p:cNvPr id="331" name="Picture 7" descr="5cb2c6e6-0c3d-4a4a-919a-30f7c103c41d"/>
              <p:cNvPicPr/>
              <p:nvPr/>
            </p:nvPicPr>
            <p:blipFill>
              <a:blip r:embed="rId1"/>
              <a:stretch/>
            </p:blipFill>
            <p:spPr>
              <a:xfrm>
                <a:off x="914400" y="2133720"/>
                <a:ext cx="3903480" cy="419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Rectangle 8"/>
              <p:cNvSpPr/>
              <p:nvPr/>
            </p:nvSpPr>
            <p:spPr>
              <a:xfrm>
                <a:off x="3962160" y="3124080"/>
                <a:ext cx="91404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9"/>
              <p:cNvSpPr/>
              <p:nvPr/>
            </p:nvSpPr>
            <p:spPr>
              <a:xfrm>
                <a:off x="914400" y="2743200"/>
                <a:ext cx="1522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0"/>
              <p:cNvSpPr/>
              <p:nvPr/>
            </p:nvSpPr>
            <p:spPr>
              <a:xfrm>
                <a:off x="4190760" y="23623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: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11"/>
              <p:cNvSpPr/>
              <p:nvPr/>
            </p:nvSpPr>
            <p:spPr>
              <a:xfrm flipV="1">
                <a:off x="1371240" y="2057400"/>
                <a:ext cx="1981080" cy="358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2"/>
              <p:cNvSpPr/>
              <p:nvPr/>
            </p:nvSpPr>
            <p:spPr>
              <a:xfrm>
                <a:off x="2971440" y="16765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.5: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Rectangle 13"/>
            <p:cNvSpPr/>
            <p:nvPr/>
          </p:nvSpPr>
          <p:spPr>
            <a:xfrm>
              <a:off x="3276360" y="5867280"/>
              <a:ext cx="228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4"/>
          <p:cNvSpPr/>
          <p:nvPr/>
        </p:nvSpPr>
        <p:spPr>
          <a:xfrm>
            <a:off x="5486400" y="18288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Capture occurs in atoms where the number of protons is high relative to its number of neutr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15"/>
              <p:cNvSpPr txBox="1"/>
              <p:nvPr/>
            </p:nvSpPr>
            <p:spPr>
              <a:xfrm>
                <a:off x="5843520" y="4506840"/>
                <a:ext cx="21034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p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Text Box 16"/>
          <p:cNvSpPr/>
          <p:nvPr/>
        </p:nvSpPr>
        <p:spPr>
          <a:xfrm>
            <a:off x="213372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342900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5715000" y="5410080"/>
            <a:ext cx="236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at region of the graph would this type of decay be most effectiv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7848720" y="617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822240" y="998640"/>
            <a:ext cx="786456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Nuclear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ciencegeek.net/Chemistry/taters/Unit1NuclearEquation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 of Stability Practic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algebralab.com/practice/practice.aspx?file=Reading_TheBandOfStability.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Activ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106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following nuclear equation, state the type of decay and explain why this nuclide decays in this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2556000" y="2765520"/>
                <a:ext cx="46558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__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3"/>
              <p:cNvSpPr txBox="1"/>
              <p:nvPr/>
            </p:nvSpPr>
            <p:spPr>
              <a:xfrm>
                <a:off x="4532400" y="2697120"/>
                <a:ext cx="760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Text Box 15"/>
          <p:cNvSpPr/>
          <p:nvPr/>
        </p:nvSpPr>
        <p:spPr>
          <a:xfrm>
            <a:off x="861840" y="4037040"/>
            <a:ext cx="730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 Capture, the neutron to proton ration of Pm-142 falls below the band of st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836640" y="5487840"/>
            <a:ext cx="74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25 Homework Quiz – Friday 11/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25 Test – Tuesday 11/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mu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nuclear reactions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uta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ransmutation reactions are in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ransuranium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tomic #93 and greater)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n produced through in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u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6683400" y="1512720"/>
            <a:ext cx="2270160" cy="1262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sion of 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 into 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 of an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6" descr="300px-Fission_chain_reaction"/>
          <p:cNvPicPr/>
          <p:nvPr/>
        </p:nvPicPr>
        <p:blipFill>
          <a:blip r:embed="rId1"/>
          <a:stretch/>
        </p:blipFill>
        <p:spPr>
          <a:xfrm>
            <a:off x="6505560" y="3263760"/>
            <a:ext cx="23335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riting Induced Transmutation Re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468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0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balanced nuclear equation for the induced transmutation of aluminum-27 into sodium-24 by neutron bombardment.  An alpha particle is released in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8"/>
              <p:cNvSpPr txBox="1"/>
              <p:nvPr/>
            </p:nvSpPr>
            <p:spPr>
              <a:xfrm>
                <a:off x="2898720" y="3122640"/>
                <a:ext cx="37418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l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Text Box 4"/>
          <p:cNvSpPr/>
          <p:nvPr/>
        </p:nvSpPr>
        <p:spPr>
          <a:xfrm>
            <a:off x="679320" y="438948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balanced nuclear equation for the alpha particle bombardment of Pu-239.  One of the reaction products is a neutr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13"/>
              <p:cNvSpPr txBox="1"/>
              <p:nvPr/>
            </p:nvSpPr>
            <p:spPr>
              <a:xfrm>
                <a:off x="2919240" y="5738760"/>
                <a:ext cx="3618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u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dioactive Dec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3128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active decay rates are measured in half-lives (amount of time it takes for half of a sample of radioactive nuclei to dec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1251000" y="3794040"/>
                <a:ext cx="18302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itial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Text Box 8"/>
          <p:cNvSpPr/>
          <p:nvPr/>
        </p:nvSpPr>
        <p:spPr>
          <a:xfrm>
            <a:off x="1200240" y="322740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q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4389480" y="3278160"/>
            <a:ext cx="326556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sible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amount of isoto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amount of isoto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elap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half-l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-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y of that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ativ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600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in a penny 2900000000000000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ample Probl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1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mple of radioactive iridium has a half life of 12 years.  In 60 years, how much iridium would remain from a 50g sam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3"/>
              <p:cNvSpPr txBox="1"/>
              <p:nvPr/>
            </p:nvSpPr>
            <p:spPr>
              <a:xfrm>
                <a:off x="5016600" y="5468760"/>
                <a:ext cx="14284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Text Box 4"/>
          <p:cNvSpPr/>
          <p:nvPr/>
        </p:nvSpPr>
        <p:spPr>
          <a:xfrm>
            <a:off x="849240" y="3206880"/>
            <a:ext cx="2691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Elapsed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 of half lives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of 1 half life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1828800" y="3187800"/>
            <a:ext cx="10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3357720" y="5651640"/>
            <a:ext cx="15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yea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2886120" y="445608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yea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1814400" y="3814920"/>
            <a:ext cx="5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15"/>
              <p:cNvSpPr txBox="1"/>
              <p:nvPr/>
            </p:nvSpPr>
            <p:spPr>
              <a:xfrm>
                <a:off x="4921200" y="3490920"/>
                <a:ext cx="14860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7"/>
              <p:cNvSpPr txBox="1"/>
              <p:nvPr/>
            </p:nvSpPr>
            <p:spPr>
              <a:xfrm>
                <a:off x="4892760" y="2376360"/>
                <a:ext cx="1560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itial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5" name="Text Box 18"/>
          <p:cNvSpPr/>
          <p:nvPr/>
        </p:nvSpPr>
        <p:spPr>
          <a:xfrm>
            <a:off x="2846520" y="5056200"/>
            <a:ext cx="13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/12 =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9"/>
              <p:cNvSpPr txBox="1"/>
              <p:nvPr/>
            </p:nvSpPr>
            <p:spPr>
              <a:xfrm>
                <a:off x="4957920" y="4430880"/>
                <a:ext cx="1498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0"/>
              <p:cNvSpPr txBox="1"/>
              <p:nvPr/>
            </p:nvSpPr>
            <p:spPr>
              <a:xfrm>
                <a:off x="7029360" y="3813120"/>
                <a:ext cx="193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uclear Reactions and Ener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F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oms with a mass number greater than 60 tend to undergo nuclear fission in which an atom “splits” apar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oms with a mass number less than 60 tend to undergo nuclear fusion in which two lighter atoms fuse togeth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inding Ener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" descr="binding"/>
          <p:cNvPicPr/>
          <p:nvPr/>
        </p:nvPicPr>
        <p:blipFill>
          <a:blip r:embed="rId1"/>
          <a:stretch/>
        </p:blipFill>
        <p:spPr>
          <a:xfrm>
            <a:off x="1258920" y="1487520"/>
            <a:ext cx="5645160" cy="36385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8"/>
          <p:cNvSpPr/>
          <p:nvPr/>
        </p:nvSpPr>
        <p:spPr>
          <a:xfrm>
            <a:off x="4062240" y="352440"/>
            <a:ext cx="4805640" cy="992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mount of energy required to break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le of nuclei into individual nucle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ctants and Produ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sion-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fuel used in a chai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mited re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itical mass- minimum mass to sustain chain re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isk of runaway chain re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duces radioactive waste produ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posal concer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action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sion-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and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used as f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tracted from sea wa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 a chain re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risk of runaway reac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nradioactive waste: heliu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s temp of 200 Million 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action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487656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uclear Power-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nerated by a controlled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fissio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chain re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3580920"/>
            <a:ext cx="36957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rods- absorb neutrons to slow the chai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of cad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ed or withdrawn to keep temp of reaction st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57800" y="350532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ors- slow neutrons down so they DO hit uranium fuel r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of water, beryllium, or gra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ded to allow neutrons to be absorbed by urani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4842000" y="304920"/>
            <a:ext cx="39114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oling and Shielding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- acts as a coolant and transfers heat between reactor and turbines that produce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l &amp; concrete- surround core and protect personnel by absorbing rad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0" y="141120"/>
            <a:ext cx="883908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ther Uses of Radioactiv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e isotopes used to track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emistry/biology- pathways of reaction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dustry and environment- path of groundwater, durability of contai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dicine- diagnose malfunction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scovering the Elect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6868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s with electricity, using cathode ray tubes led to the discovery cathode r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700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de rays were a stream of charged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700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icles carried a nega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rookes-tube"/>
          <p:cNvPicPr/>
          <p:nvPr/>
        </p:nvPicPr>
        <p:blipFill>
          <a:blip r:embed="rId1"/>
          <a:stretch/>
        </p:blipFill>
        <p:spPr>
          <a:xfrm>
            <a:off x="2209680" y="1371600"/>
            <a:ext cx="4324320" cy="24098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477120" y="152388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de (-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6212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de (+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3428640" y="2057400"/>
            <a:ext cx="2438280" cy="0"/>
            <a:chOff x="3428640" y="2057400"/>
            <a:chExt cx="2438280" cy="0"/>
          </a:xfrm>
        </p:grpSpPr>
        <p:sp>
          <p:nvSpPr>
            <p:cNvPr id="124" name="Line 8"/>
            <p:cNvSpPr/>
            <p:nvPr/>
          </p:nvSpPr>
          <p:spPr>
            <a:xfrm flipH="1">
              <a:off x="563832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 flipH="1">
              <a:off x="533376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 flipH="1">
              <a:off x="502884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 flipH="1">
              <a:off x="472392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 flipH="1">
              <a:off x="441936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H="1">
              <a:off x="403812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9"/>
            <p:cNvSpPr/>
            <p:nvPr/>
          </p:nvSpPr>
          <p:spPr>
            <a:xfrm flipH="1">
              <a:off x="373356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0"/>
            <p:cNvSpPr/>
            <p:nvPr/>
          </p:nvSpPr>
          <p:spPr>
            <a:xfrm flipH="1">
              <a:off x="3428640" y="2057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J Thomps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31237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proved Daltons theory that atoms were indivisible because he determined that the mass of a cathode particle was far less than that of a hydrogen ato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jj_thompson_400px"/>
          <p:cNvPicPr/>
          <p:nvPr/>
        </p:nvPicPr>
        <p:blipFill>
          <a:blip r:embed="rId1"/>
          <a:stretch/>
        </p:blipFill>
        <p:spPr>
          <a:xfrm>
            <a:off x="3505320" y="228600"/>
            <a:ext cx="2320920" cy="2548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5867280" y="304920"/>
            <a:ext cx="32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d the Charge to Mass ratio of cathode particles (~1/1840 the mass of a hydrogen atom) and discovered the electr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548640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the “Plum Pudding” model of the at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3"/>
          <p:cNvSpPr/>
          <p:nvPr/>
        </p:nvSpPr>
        <p:spPr>
          <a:xfrm>
            <a:off x="6248520" y="4495680"/>
            <a:ext cx="2133360" cy="2133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        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4"/>
          <p:cNvSpPr/>
          <p:nvPr/>
        </p:nvSpPr>
        <p:spPr>
          <a:xfrm>
            <a:off x="7086600" y="464832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5"/>
          <p:cNvSpPr/>
          <p:nvPr/>
        </p:nvSpPr>
        <p:spPr>
          <a:xfrm>
            <a:off x="7543800" y="617220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6"/>
          <p:cNvSpPr/>
          <p:nvPr/>
        </p:nvSpPr>
        <p:spPr>
          <a:xfrm>
            <a:off x="7696080" y="541008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6934320" y="594360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9"/>
          <p:cNvSpPr/>
          <p:nvPr/>
        </p:nvSpPr>
        <p:spPr>
          <a:xfrm>
            <a:off x="6858000" y="518148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0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1"/>
          <p:cNvSpPr/>
          <p:nvPr/>
        </p:nvSpPr>
        <p:spPr>
          <a:xfrm>
            <a:off x="6324480" y="548640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2"/>
          <p:cNvSpPr/>
          <p:nvPr/>
        </p:nvSpPr>
        <p:spPr>
          <a:xfrm>
            <a:off x="7924680" y="594360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rnest Rutherfor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24120" y="304920"/>
            <a:ext cx="2514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ucleus of the atom with the “Gold Foil”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ErnestRutherford2"/>
          <p:cNvPicPr/>
          <p:nvPr/>
        </p:nvPicPr>
        <p:blipFill>
          <a:blip r:embed="rId1"/>
          <a:stretch/>
        </p:blipFill>
        <p:spPr>
          <a:xfrm>
            <a:off x="4495680" y="228600"/>
            <a:ext cx="1782720" cy="220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Rutherford_gold-foil_experiment"/>
          <p:cNvPicPr/>
          <p:nvPr/>
        </p:nvPicPr>
        <p:blipFill>
          <a:blip r:embed="rId2"/>
          <a:stretch/>
        </p:blipFill>
        <p:spPr>
          <a:xfrm>
            <a:off x="0" y="2819520"/>
            <a:ext cx="556272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302px-Rutherford_gold_foil_experiment_results"/>
          <p:cNvPicPr/>
          <p:nvPr/>
        </p:nvPicPr>
        <p:blipFill>
          <a:blip r:embed="rId3"/>
          <a:stretch/>
        </p:blipFill>
        <p:spPr>
          <a:xfrm>
            <a:off x="5943600" y="2476440"/>
            <a:ext cx="2876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uclear Model of the Ato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99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atom consist of electrons moving rapidly through empty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99"/>
              </a:spcBef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held in place in the atom by their attraction to a positively charged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AtomLabeled"/>
          <p:cNvPicPr/>
          <p:nvPr/>
        </p:nvPicPr>
        <p:blipFill>
          <a:blip r:embed="rId1"/>
          <a:stretch/>
        </p:blipFill>
        <p:spPr>
          <a:xfrm>
            <a:off x="3124080" y="4114800"/>
            <a:ext cx="2505240" cy="2514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5791320" y="4419720"/>
            <a:ext cx="304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is picture accurately represent Rutherford’s Nuclear Mode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ames Chadwic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therford model, consisting of electrons and protons could not account for the total mass of the atom, which led to the discovery of the neut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21103-004-C139108F"/>
          <p:cNvPicPr/>
          <p:nvPr/>
        </p:nvPicPr>
        <p:blipFill>
          <a:blip r:embed="rId1"/>
          <a:stretch/>
        </p:blipFill>
        <p:spPr>
          <a:xfrm>
            <a:off x="4343400" y="304920"/>
            <a:ext cx="1311120" cy="1752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5791320" y="5335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ed the Neutr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perties of Subatomic Partic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828800"/>
          <a:ext cx="8534520" cy="3413160"/>
        </p:xfrm>
        <a:graphic>
          <a:graphicData uri="http://schemas.openxmlformats.org/drawingml/2006/table">
            <a:tbl>
              <a:tblPr/>
              <a:tblGrid>
                <a:gridCol w="1066680"/>
                <a:gridCol w="990720"/>
                <a:gridCol w="2133720"/>
                <a:gridCol w="1322280"/>
                <a:gridCol w="1430280"/>
                <a:gridCol w="159084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cl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bo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ica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g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Mas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ua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ss (g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ce surrounding the nucle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_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1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37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tr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75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2:57:46Z</dcterms:created>
  <dc:creator>Dawn Pav</dc:creator>
  <dc:description/>
  <dc:language>en-US</dc:language>
  <cp:lastModifiedBy>dpav</cp:lastModifiedBy>
  <dcterms:modified xsi:type="dcterms:W3CDTF">2010-11-17T17:02:26Z</dcterms:modified>
  <cp:revision>23</cp:revision>
  <dc:subject/>
  <dc:title>Early Atomic Theorists</dc:title>
</cp:coreProperties>
</file>